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B50-9AFC-4675-AD4D-0A0ADCC6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777-562F-4A03-84C5-A76F9780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F86-29CC-4324-9005-0A7FBC15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008-C134-4B1F-BE44-B36E51B5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D47-DA99-4C52-9E2A-E4F0FFC5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8E6-9C1A-4C28-AD7F-A93ADAA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192-D91F-450C-9DD8-7641350B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DF9-8394-4CE9-B297-942D19D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39D-BE73-420F-AE9A-0F74BAF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6A3-A06D-4049-B857-297582D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FE1-0498-49C4-B6CB-8897392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F52-1CB5-4163-9D58-6E22E73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412C-06A4-4C23-BEE7-F4474CBE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30976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2546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30520" y="5057640"/>
            <a:ext cx="33274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08360" y="304920"/>
            <a:ext cx="269244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7360" y="4800600"/>
            <a:ext cx="273672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14840" y="48769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080" y="609480"/>
            <a:ext cx="3333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429000" cy="295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79800" y="533520"/>
            <a:ext cx="2479680" cy="367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320" y="46483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8-12-18T23:16:36Z</dcterms:modified>
  <cp:revision>7</cp:revision>
  <dc:subject/>
  <dc:title>Slide 1</dc:title>
</cp:coreProperties>
</file>